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A734-A8B2-45C0-8D0F-47811BBE6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E65B-7A55-4E03-8AE1-D9E7EF29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715C-6841-41E0-B261-5D0356B59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D0A6-B35E-4730-B7DD-C1B38ACA0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43D0-193C-423D-B2A3-B960D243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0E1D-AF17-4DC2-BD25-029024DF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C585-A5E8-4AC0-8371-E6408854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A335-3B3C-46C9-B206-F8A60572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DA46-F49E-4A72-8DB5-6A09E8D7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6712-758F-4114-8034-4BA880C5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5DBC-399D-43C4-80D6-112501F4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2C80-3BB9-4C59-9D98-879F11CE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0B85-C39F-4329-A75F-9DF4CCC26A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wunderground.com/MAR/nem.html?map=wave&amp;MR=1" TargetMode="External"/><Relationship Id="rId2" Type="http://schemas.openxmlformats.org/officeDocument/2006/relationships/hyperlink" Target="http://www.swellinfo.com/surf-forecast/atlantic-city-new-jersey.html" TargetMode="External"/><Relationship Id="rId3" Type="http://schemas.openxmlformats.org/officeDocument/2006/relationships/hyperlink" Target="http://climate.rutgers.edu/stateclim/?section=uscp&amp;target=NJCoverview" TargetMode="External"/><Relationship Id="rId4" Type="http://schemas.openxmlformats.org/officeDocument/2006/relationships/hyperlink" Target="http://www.currentresults.com/Oceans/Temperature/new-jersey-average-water-temperature.php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urfing Atlantic City New Jersey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th Carolina Aven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York Aven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othy Gira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New York Av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153280" cy="48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New York Av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York Ave. picks up a variety of swell directions but due to the pier, this spot handles a northern swell better than South Carolina Av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nd gathers just beyond the pier, giving it a shallow take off poi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eft-breaking waves wrap perfectly around the pier providing one of the longest rides the city has to off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New York Av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39152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NY Av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York Ave has been referred to as “Go-karts” because of the screeching go-karts on the pier over h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“Go-Karts” whoever takes off closest to the pier has priority of the wav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often crowded spot can create an aggressive atmosphere as several surfers jockey for the one spot off the end of the pier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y take offs too close to the pier have lead to many broken boards and lifeguard rescu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315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uth Carolina Av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uth Carolina Av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7816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uth Carolina Av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69636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uth Carolina Av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swell is out of the south, go to South.” says the wise, old longboar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spot picks up all swells and can handle a southerly swell nicely. The left-breaking wave off  the wooden groin is widely considered the best wave in the c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also an underrated and very hollow right that barrels off of a rock jet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igh-performance waves at South Carolina  attract the best surfers in the area. The wave is suitable for aerials and monster barrel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uth Carolina Av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youtu.be/8sEdQopHsJ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tlantic Cit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nimal lif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quent dolphin sightings have been known to spook a surfer into believing that they may be surrounded by shark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sher sharks have washed up on the bea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lly fish can range in size from peas to basketballs. Tropical jellies have been known to make the trip on warm tropical currents flowing nort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raveling to Atlantic Cit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st consistent time for swell in the Atlantic would be the fall and winter due to the storm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ff season for the casinos in Atlantic City runs from September through Apri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this time you can acquire discounted rooms for as little as $60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king is most safely done in the parking garages. Parking on the street is not advis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tlantic City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mbination of hurricane season, and consistent cold winter nor’easters makes traveling to Atlantic City in the fall and winter months worth whi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can get discounted warm rooms at casinos during these months to make the 37 degree ocean water bearable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urces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ffff"/>
                </a:solidFill>
                <a:uFillTx/>
                <a:latin typeface="Arial"/>
                <a:hlinkClick r:id="rId1"/>
              </a:rPr>
              <a:t>http://www.wunderground.com/MAR/nem.html?map=wave&amp;MR=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ffff"/>
                </a:solidFill>
                <a:uFillTx/>
                <a:latin typeface="Arial"/>
                <a:hlinkClick r:id="rId2"/>
              </a:rPr>
              <a:t>http://www.swellinfo.com/surf-forecast/atlantic-city-new-jersey.html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ffff"/>
                </a:solidFill>
                <a:uFillTx/>
                <a:latin typeface="Arial"/>
                <a:hlinkClick r:id="rId3"/>
              </a:rPr>
              <a:t>http://climate.rutgers.edu/stateclim/?section=uscp&amp;target=NJCoverview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ffff"/>
                </a:solidFill>
                <a:uFillTx/>
                <a:latin typeface="Arial"/>
                <a:hlinkClick r:id="rId4"/>
              </a:rPr>
              <a:t>http://www.currentresults.com/Oceans/Temperature/new-jersey-average-water-temperature.ph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nodc.noaa.gov/dsdt/cwtg/index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stormsolutionsusa.com/Brochures/Noreaster%20Handout.pd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thesurfersview.com/index.php?option=com_content&amp;view=article&amp;id=51&amp;Itemid=7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magicseaweed.com/photoLab/browsePhotos.php?order=&amp;tag=&amp;regionId=&amp;region=&amp;spotId=390&amp;spot=&amp;userId=&amp;userName=&amp;user=&amp;countryId=&amp;country=&amp;date=&amp;dateLimit=&amp;start=120&amp;pod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urricane Seas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rricane season runs six months from June 1st through November 3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spike in wave activity in Atlantic City during the oceans warmest months August, and Septemb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inds from a hurricane can be over 170 mph causing tremendous ocean swell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Nor’ Easter Seas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nor’easter is a strong low pressure system. Nor’easter season lasts seven months, from October to Apri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nor'easter is similar to a hurricane, except a nor’easter is generally double or triple the size of a hurrican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rricanes rarely hit the north east coast, but you can not have a winter with out 20-40 nor’easters, with at least two being seve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’easters linger, they can stick around for several tidal cycles all while churning up the ocea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urrent Swell Direc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urrent Wave Heigh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24080" y="5410080"/>
            <a:ext cx="276228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cean and Air Temperature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nuary – March average water temperature is 38 degrees. With an average high temp of 45 degrees and an average low of 32 degre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– June average water temperature of 53 degrees. With an average high temp 66 degrees and an average low of 55 degre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cean and Air Temperatu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 – September the average ocean temperature is 71 degrees. The average high temperature is 78 degrees and the average low is 68 degre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tober – December the average ocean temperature is 52 degrees. The average high temperature is 55 degrees with an average low of 43 degrees.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New York Av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5:13:43Z</dcterms:created>
  <dc:creator>Timmy</dc:creator>
  <dc:description/>
  <dc:language>en-US</dc:language>
  <cp:lastModifiedBy>Timmy</cp:lastModifiedBy>
  <dcterms:modified xsi:type="dcterms:W3CDTF">2011-11-01T21:04:11Z</dcterms:modified>
  <cp:revision>16</cp:revision>
  <dc:subject/>
  <dc:title>Surfing Atlantic City New Jersey</dc:title>
</cp:coreProperties>
</file>